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9A3-8FE7-46E5-859D-BDF86A57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DAE-354F-4040-AA4B-6F06C1EF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498-39A7-4275-8116-2A9A37F6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C0E-9E10-4A50-B039-783B5767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5E2-D4CF-4082-B2ED-263B2AC7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2FE-84F9-4EA6-8CDF-8A36D4B7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E201-2AB9-46CE-A613-DFE5AAA9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490-B5F6-4DBC-86E3-56252E9D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616-0621-48E5-AC32-4C3FD954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AE37-D793-4D3D-9B3B-2F7383A4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312-7C8B-4007-AB61-C14AF482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B3C-DB88-4A35-AC1C-92B2652F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D1B9-080D-4EEE-9D47-E79705CFB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W1400 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all channels of A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time and frequency domai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various SFDR and SNR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 DAC with user loadable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827600" y="1600200"/>
          <a:ext cx="3679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0" y="1600200"/>
                    <a:ext cx="3679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W1400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board supporting both ADC and D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capture size up to 512M samples shared by all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ix IV FPGA allowing the DDR input clock from the ADC as fast as 700 MHz DDR (potential for 800M D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taneous capture of multiple ADC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triggering pro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board LEDs for visual indication of various stages during data cap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capture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 configurable for fast boo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827600" y="1600200"/>
          <a:ext cx="3679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0" y="1600200"/>
                    <a:ext cx="3679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SW1400 FPGA DAC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838080"/>
          <a:ext cx="563868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563868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SW1400 FPGA ADC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00200" y="685800"/>
          <a:ext cx="579132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85800"/>
                    <a:ext cx="57913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5:46:31Z</dcterms:created>
  <dc:creator>a0212486</dc:creator>
  <dc:description/>
  <dc:language>en-US</dc:language>
  <cp:lastModifiedBy>a0181823</cp:lastModifiedBy>
  <dcterms:modified xsi:type="dcterms:W3CDTF">2012-05-17T18:45:02Z</dcterms:modified>
  <cp:revision>6</cp:revision>
  <dc:subject/>
  <dc:title>TSW1400 block diagram</dc:title>
</cp:coreProperties>
</file>